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AD6E-6991-44AF-BA3D-E6D15B751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B3C2-357A-49FB-A845-5E8979265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E42A-21F4-4F83-BCF4-B0037BB83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2088-1409-4985-A896-BF09EB717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mmercial one more time and provide reflection cards. (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1990-564E-4979-87EB-46B67B862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E9BE-2255-45BB-BD02-C3917D267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Kelly &amp; Linda)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7E56-5A01-486A-A791-3D9E6F922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9ADC-5A63-47F1-8876-E7CF31B27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3530-48FC-4A46-B84B-CEEE963D1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ewing commercial remind the participants that communication is the key to a successful teaching relationship.  Trust must be built over time.  Today we will have them partner up with the same partner for the hour.  Have them partner up with an educator in their secondary level. (Kelly) (one teach 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A061-C05B-4861-81DB-6AF118A49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or explanation (Linda &amp; Kelly) TEAM TE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8408-C463-4874-90E4-3367A2801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ners complete poster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hang their metaph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2AC9-0C11-4803-91EE-8EB683897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F2058-197E-4269-8663-9A9A125F1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1184-B2A8-4035-ADF7-D4556A52F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B2D96-6B46-4320-84EC-7B64E63CF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295D4-B25B-46F0-BCE6-0BACC6903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2D8BC-8D19-49A0-889E-8E1C5360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568E9-1C32-4016-9DDA-F9B317552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BC24-E035-461B-AAAD-2FECC7D9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5FECF-D102-42BD-AE75-C2600312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FB9EA-361D-47C4-86D8-F40D5240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0212-ABE6-41EA-BDA3-5EC5C758A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672FB-44BA-43C7-B551-FA6A8F3C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F449-D1E1-45E1-9567-7031CC7F0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F7B2-4892-420B-84DE-8C3A61B08F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CPDlogoCOLOR"/>
          <p:cNvPicPr/>
          <p:nvPr/>
        </p:nvPicPr>
        <p:blipFill>
          <a:blip r:embed="rId2"/>
          <a:stretch/>
        </p:blipFill>
        <p:spPr>
          <a:xfrm>
            <a:off x="6629400" y="6172200"/>
            <a:ext cx="1828800" cy="523800"/>
          </a:xfrm>
          <a:prstGeom prst="rect">
            <a:avLst/>
          </a:prstGeom>
          <a:ln w="0">
            <a:noFill/>
          </a:ln>
        </p:spPr>
      </p:pic>
      <p:pic>
        <p:nvPicPr>
          <p:cNvPr id="6" name="Picture 8" descr="red-sports-car2"/>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Afterno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table tent with your name and where you teach/level,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introduce yourself to the rest of th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Warm-Up” section of the reflective jour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almon Co-Teaching info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304920" y="457200"/>
            <a:ext cx="8610480" cy="6216480"/>
          </a:xfrm>
          <a:prstGeom prst="rect">
            <a:avLst/>
          </a:prstGeom>
          <a:ln w="0">
            <a:noFill/>
          </a:ln>
        </p:spPr>
      </p:pic>
      <p:sp>
        <p:nvSpPr>
          <p:cNvPr id="68" name="Rectangle 6"/>
          <p:cNvSpPr/>
          <p:nvPr/>
        </p:nvSpPr>
        <p:spPr>
          <a:xfrm>
            <a:off x="0" y="89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0" y="893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gsaw</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1830240"/>
        </p:xfrm>
        <a:graphic>
          <a:graphicData uri="http://schemas.openxmlformats.org/drawingml/2006/table">
            <a:tbl>
              <a:tblPr/>
              <a:tblGrid>
                <a:gridCol w="2590920"/>
                <a:gridCol w="5638680"/>
              </a:tblGrid>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 prepare to co-teach, role of the principal, role of co-teach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co-teaching, plann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ng, Assessing, Final Though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Journal</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will you turn one of your Con’s of co-teaching into a P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75"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4" descr="MPj04389100000[1]">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entury Gothic"/>
              </a:rPr>
              <a:t>Making it Work for You and Your Students</a:t>
            </a:r>
            <a:endParaRPr b="0" lang="en-US" sz="4400" spc="-1" strike="noStrike">
              <a:solidFill>
                <a:srgbClr val="000000"/>
              </a:solidFill>
              <a:latin typeface="Arial"/>
            </a:endParaRPr>
          </a:p>
        </p:txBody>
      </p:sp>
      <p:sp>
        <p:nvSpPr>
          <p:cNvPr id="53" name="PlaceHolder 2"/>
          <p:cNvSpPr>
            <a:spLocks noGrp="1"/>
          </p:cNvSpPr>
          <p:nvPr>
            <p:ph type="subTitle"/>
          </p:nvPr>
        </p:nvSpPr>
        <p:spPr>
          <a:xfrm>
            <a:off x="1600200" y="304920"/>
            <a:ext cx="6400800" cy="17524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4" name="Picture 4" descr="red-sports-car2"/>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y a class on co-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0" name="PlaceHolder 2"/>
          <p:cNvSpPr>
            <a:spLocks noGrp="1"/>
          </p:cNvSpPr>
          <p:nvPr>
            <p:ph/>
          </p:nvPr>
        </p:nvSpPr>
        <p:spPr>
          <a:xfrm>
            <a:off x="457200" y="1066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community of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the “Why’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Pro’s and Con’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your needs as a learner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utoShape 4"/>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utoShape 2"/>
          <p:cNvSpPr/>
          <p:nvPr/>
        </p:nvSpPr>
        <p:spPr>
          <a:xfrm>
            <a:off x="228600" y="304920"/>
            <a:ext cx="8610480" cy="35049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eaching is like 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Definition</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Teaching is a collaborative partnership between a generalist and a specialist who have shared accountability and ownership for planning and delivering instruction and assessment to all students within a classroom environment</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yland Co-Teaching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Tea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12-03-06T23:23:47Z</dcterms:modified>
  <cp:revision>21</cp:revision>
  <dc:subject/>
  <dc:title>Making it Work for You and Your Students</dc:title>
</cp:coreProperties>
</file>